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0E6-0B19-44DB-8AB9-D3D7B65F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812-E555-4632-81F9-0F5D67DE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B7B-112D-4FF2-84DE-182B4860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CCD-D1EB-45EA-ABD1-1EAB7F37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D020-56E0-43B4-828B-BEB5576F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5D02-A0CB-4E66-A329-7F5E3DD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1034-175E-4AB0-ABE7-248D3B61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2324-279E-4F47-8361-F20166CE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EA88-8DF9-4C5C-93DC-A99A338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9442-0876-4187-955D-3AA82D0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46FF-BC03-4A6C-9A94-97F139B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803-CB5F-4461-94A1-0349D7C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59F2-D062-4ADC-9F68-DCAB7E3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32AC-49E6-41EA-9578-261D175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3DFD-11C4-4F3E-98E2-6CCC5E9A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EEE-D5A9-4EB6-AC13-A771A957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EC19-A4BE-4FDE-B99F-65F4D523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9A01-E48E-4D01-A6D9-D4E402C7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4D6E-80BD-428C-B993-CDF309FA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5243-CB56-4819-ABA8-B1F29B6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F151-5145-44F5-B3AA-46995FF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A529-A03C-40E6-A27A-5C0B8730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81A-3900-4671-82F4-6A3BBFA1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C166-49E7-4DD0-9059-431B9F8D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A6A5-B69B-41CC-BC4A-7A80607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CAD7-EDB5-43F4-BD09-9A9DA39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86E9-BE74-4764-9CF0-4BBDC00A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E2F95-326F-45F2-99F9-8C71346C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4CB1-2EEA-4A7B-BCA3-125D9337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6D59-C18F-4812-BFF3-19CCADFF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B6BC-2233-4CF2-B914-C7F0FB80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0147-096B-4411-AFC1-7354610D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FB8C-0027-457E-8C64-72D8A9EC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F97-9686-41F7-928D-1D468024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F144-140D-45B1-AD48-A6B27DD6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F380-535F-4A5A-9782-907E8DBB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2EC88-C05E-49E5-AAD1-3AC943A9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8AA7-5D19-49F9-94AC-58E965CC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5565-341C-4789-ABB6-12EA76C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D99A-F3A3-47FD-9FC7-494CEDC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CEA5-F2E3-4964-9A4F-8F09BD52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C87C-1DC3-43FB-A611-5873FD05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1F6B-748A-402B-95DB-D161FEE8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22CB1-0E79-4F12-A1D4-76E9C660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440-0EB9-4EBC-9F2E-492A975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041D-E3A1-4297-B7F1-1955FC39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2887E-441B-4F5A-B075-8FA648A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11A2F-CDD6-4A49-8909-B55BD12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D838-D075-468B-9FEC-4CF44B48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A851C-DBBE-4C7E-A4F5-2947BFB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2A74-96AB-494F-ABDE-AE5B030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5DC3C-724E-4057-861B-E70E604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5F80-9887-4ED3-A090-99E873B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D966-FE2D-4D1C-8A86-E26AA89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D284-A26C-4D8B-A918-02106A35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CD2-FCDE-4482-86F1-2B61E731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0340-6EAD-4F45-A19C-2F1B90EB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82E-C19A-4416-B463-0214A89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1F0-2AD0-4817-B7F3-AD92CF6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0F6-8976-4DDB-B6D3-7F872694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414-250D-462D-B35D-BADE4EA534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34F-88A7-41A1-863B-8D2309E517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447E-FBDE-469B-87CF-6E7156C510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AA33-AD78-4009-98A7-CEC6A598AE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2BE1-6592-48E3-9F36-073B33F95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MP900439539[1]"/>
          <p:cNvPicPr/>
          <p:nvPr/>
        </p:nvPicPr>
        <p:blipFill>
          <a:blip r:embed="rId1"/>
          <a:stretch/>
        </p:blipFill>
        <p:spPr>
          <a:xfrm>
            <a:off x="228600" y="-1447920"/>
            <a:ext cx="8686800" cy="10211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6324480" y="2133720"/>
            <a:ext cx="281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a de Limba Roma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213520"/>
            <a:ext cx="28954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terial realizat de catre elevele clsasei a VI-a B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oana Cosma si Alina Stoia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n Scoala cu clasele I-VIII N.I. JILINSCHI Vernes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219320" y="2590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tera si sunet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e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ubRRectCallout"/>
          <p:cNvSpPr/>
          <p:nvPr/>
        </p:nvSpPr>
        <p:spPr>
          <a:xfrm>
            <a:off x="609480" y="1219320"/>
            <a:ext cx="7010640" cy="3047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85800" y="533520"/>
            <a:ext cx="6858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e este diferenta dintre o LITERA si un SUNET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meditatii_elevi"/>
          <p:cNvPicPr/>
          <p:nvPr/>
        </p:nvPicPr>
        <p:blipFill>
          <a:blip r:embed="rId1"/>
          <a:stretch/>
        </p:blipFill>
        <p:spPr>
          <a:xfrm>
            <a:off x="3657600" y="4038480"/>
            <a:ext cx="4343400" cy="2660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83808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 dintre elevi intreaba adeseor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305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533520" y="1066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 este scopul acestul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33520" y="1981080"/>
            <a:ext cx="426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UL nostru este de a reduce, sau chiar a elimina numarul de elevi ce nu pot, sau nu stiu sa deosebeasca LITERA de SU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174600"/>
            <a:ext cx="5638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erele au o vechime foarte mare. In istoria scrisului romanesc exista doua tipuri de alfab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fabetul chiri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este alfabetul textelor romanesti vechi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este un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iste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e scrie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reat la sfarsitul secolului al IX- lea de ucenici al misionarilor crestini de origine bulgar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n-a fost niciodata perfect adecvat sau adaptat scrierii  romanes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. Alfabetul lati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este o achizitie ceva mai tarzie in scrisul romanesc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doua texte romanesti cu grafica latina de la sfarsitul secolului al XVI-lea a functionat si 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numitul alfabet de tranzitie , fondat pe utilizarea combinata  a literelor chirilice si a celor latine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cursul sistematic al alfabetului latin dateaza din perioada Scolii Ardelene; alaturi de slavona, latina a functionat  ca limba  a culturii romanesti vechi , pozitia ei fiind oficial stabilita in Transilvania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 concluzie, pe teritoriul limbii romane a existat permanent atat exercitiul, cat si constiinta scrisului cu caractere la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3151080" cy="4800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MC900439407[1]"/>
          <p:cNvPicPr/>
          <p:nvPr/>
        </p:nvPicPr>
        <p:blipFill>
          <a:blip r:embed="rId1"/>
          <a:stretch/>
        </p:blipFill>
        <p:spPr>
          <a:xfrm>
            <a:off x="4419720" y="1676520"/>
            <a:ext cx="4473360" cy="481968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4" descr=""/>
          <p:cNvPicPr/>
          <p:nvPr/>
        </p:nvPicPr>
        <p:blipFill>
          <a:blip r:embed="rId2"/>
          <a:stretch/>
        </p:blipFill>
        <p:spPr>
          <a:xfrm>
            <a:off x="2109960" y="-895320"/>
            <a:ext cx="484488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762120" y="1066680"/>
            <a:ext cx="4572000" cy="46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457200" y="198108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semnul grafic din alfabetul unei limbi, care corespunde, in general, unui sunet al limbii re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1" descr="MC900439512[2]"/>
          <p:cNvPicPr/>
          <p:nvPr/>
        </p:nvPicPr>
        <p:blipFill>
          <a:blip r:embed="rId1"/>
          <a:stretch/>
        </p:blipFill>
        <p:spPr>
          <a:xfrm>
            <a:off x="3733920" y="2514600"/>
            <a:ext cx="5715000" cy="708660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4" descr=""/>
          <p:cNvPicPr/>
          <p:nvPr/>
        </p:nvPicPr>
        <p:blipFill>
          <a:blip r:embed="rId2"/>
          <a:stretch/>
        </p:blipFill>
        <p:spPr>
          <a:xfrm>
            <a:off x="3108240" y="-920880"/>
            <a:ext cx="3043440" cy="3299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304920" y="2819520"/>
            <a:ext cx="4495680" cy="22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O definitie mai scur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,,</a:t>
            </a:r>
            <a:r>
              <a:rPr b="1" i="1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Sunetul</a:t>
            </a: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este reprezentarea sonora a literelor.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Rectangle 5" descr=""/>
          <p:cNvPicPr/>
          <p:nvPr/>
        </p:nvPicPr>
        <p:blipFill>
          <a:blip r:embed="rId3"/>
          <a:stretch/>
        </p:blipFill>
        <p:spPr>
          <a:xfrm>
            <a:off x="176040" y="1536840"/>
            <a:ext cx="9126720" cy="145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301252"/>
          <p:cNvPicPr/>
          <p:nvPr/>
        </p:nvPicPr>
        <p:blipFill>
          <a:blip r:embed="rId1"/>
          <a:stretch/>
        </p:blipFill>
        <p:spPr>
          <a:xfrm>
            <a:off x="-533520" y="380880"/>
            <a:ext cx="7848720" cy="6712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3429000" y="2286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 le raspunde elevilor la intrebare si a-i lamuri cu privinta la LITERE si SUNETE, am extras o concluzie din aceasta prezent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0" y="12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o legatura intre 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arece LITERA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0" y="1905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em, iar cu ajuto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2209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UI pronun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8380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 liter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52768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76520" y="22860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opotelul a sunat ceea ce inseamna ca aici ora de Limba Romana a luat sfarsit. Va multumim pentru timpul acordat si speram ca v-am lamurit in privinta literelor si sunetel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20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5:53Z</dcterms:created>
  <dc:creator>ddd</dc:creator>
  <dc:description/>
  <dc:language>en-US</dc:language>
  <cp:lastModifiedBy>Marius</cp:lastModifiedBy>
  <dcterms:modified xsi:type="dcterms:W3CDTF">2010-10-18T09:25:09Z</dcterms:modified>
  <cp:revision>24</cp:revision>
  <dc:subject/>
  <dc:title>Slide 1</dc:title>
</cp:coreProperties>
</file>